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B7F9-A811-4F00-9CE9-0A8B9F801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937F-46C5-44D5-A846-B83A99C849E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BEAE-234B-487C-9F7D-96C722A78EF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2250-038C-4007-8350-8319DC6E2FA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423-8C46-46D3-A34C-C6BF2E6C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567-05D3-480E-A2D3-9C870A8B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61B-6C5D-433E-8CF2-7F2F9E8E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360-39A3-4551-AB9B-41FF5AF0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157D-90AF-401D-BCCE-6E840737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8937-0146-409D-A20F-16BA5E43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572C-869D-4B4F-8CED-63626F9D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2402-1C37-493B-8F0E-5297FEF4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B488-5776-4B3A-A938-77B62A1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BD60-DE9C-4DF1-AB2B-816F137B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5444-1467-45CF-9335-D6663ED2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D49-33D4-47FC-AC52-9F3F91D7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6B90-ACD1-4C0B-A0C0-74BF4615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CC0C-599A-45BE-8EB1-709BDC9D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242D-B0C2-429B-B02F-6E1C95F8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07C0-15A7-4BC3-B721-5DF3386D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5D7B-E482-4CA0-A285-2F5AFFFA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8B55C-F486-4FF9-9E86-50AB6E6349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7554CF-97FB-4478-BFAC-76A6AD2A28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7D410-A51A-4A1F-9383-5B75502104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B2E848-9EC1-4DE8-8A59-320799BEE6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0B22D-BB0E-4467-85A7-E6BA28CF1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66F-46EB-4C2C-9488-9DF06B61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6EE0F6-F0AE-43D2-9244-A73490DE79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C1359B-5E53-448C-9EC0-31AC6558FF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A451B-FCDA-4874-9EFD-899F9930C3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E086B-6E2B-4813-B24E-AE71DBDC22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B6591-5E6E-4476-98D4-9586364826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4D9FDA-AC62-4E94-B96F-4928AB0D71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E68C4-529B-4806-9A65-F25934D5C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5E8-0168-464A-99FE-313A46E0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527-A754-4491-B732-8673F0BA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B68-6F86-4016-95B0-DE8E0C86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B0A-E7FF-4762-81E9-D258EDF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001-CD11-4967-B66B-D646257E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D10-9BF5-4AB7-8FFE-4C0648C5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8CCC-A322-4D99-8397-543CEC79F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A312-666C-4BB2-B9BE-D26ABDF6B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DEDA-79C6-4485-BE75-2E5DEB9D9B24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КЛИНИЧКА ФИЗИКАЛНА ТЕРАПИЈА Н</a:t>
            </a:r>
            <a:r>
              <a:rPr b="1" lang="sr-BA" sz="3200" spc="-1" strike="noStrike">
                <a:solidFill>
                  <a:srgbClr val="660066"/>
                </a:solidFill>
                <a:latin typeface="Tahoma"/>
              </a:rPr>
              <a:t>АКОН ЛЕЗИЈА ПЕРИФЕРНИХ НЕРАВА ГОРЊЕГ ЕКСТРЕМИТЕ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рвна ћелија или неурон представља структуралну и функционалну јединицу нервног систе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CFDD-7C1E-4666-B001-77EF2FF3C4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Нервна ћел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Скелетномоторне нервне ћел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спроводе импулсе од ЦНС-а до скелетних мишића, еферент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Сензитивне нервне ћел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спроводе импулсе од од периферије на ЦНС-у, аферет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Вегетативне нервне ћел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мпатикуса и парасимпатикуса проводе импулса ка глатким ћелијама и ка ЦНС-у, то су афертна и еферет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8B4E-863A-4511-877E-C8DED9D3C0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Узроци оштећења ПМН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Инфекц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виру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херпе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зосте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виру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хепатит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полио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виру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Интоксикац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алкохолн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угљен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оноксид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паратхион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угљен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исулфид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ровање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ешки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еталим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ботулиза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оксин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ифтерије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ровање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едикаментим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етаболички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поремећаји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урем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порфир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амилоидоз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берибер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ијабете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елиту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алкохолиза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хипе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хипотиреоидиза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Тумор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бенигн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алигн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умор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Компрес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иску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херн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спондилофит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остеофит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рауматск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мпрес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Секција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рауматск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секц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оштри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предмето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оштри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штани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фрагменто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д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прелом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ст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5DF0-7758-46B9-AAA2-CAFB82CE280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ависи од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рсте нервних влак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 лезија сензитивног неу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лезија моторног неу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 лезија вегетативног неу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I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ивоа лез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егментна- радикуларна л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периферна л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D605-DE4A-4D77-B311-BD19A5EFFC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ЛЕЗИЈЕ СЕНЗИТИВНИХ ВЛАК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) утрнулост, пецкање, струјање, мравињање (квалитативне проме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) хипоестезија, анестезија, аналгезија (квантитативне проме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) иритативне лезије су праћене бол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6BFC-40B3-4047-8D55-76D20553277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ЛЕЗИЈА МОТОРНОГ НЕУРО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)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реза / парали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) атрофија / хипотроф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) атонија / хипотон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) арефлексија / хипорефлекс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) присутна је електродегенеративна реакција и електромиографски налаз денерв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25DB-6082-4D83-AEC2-E24691C40D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br>
              <a:rPr sz="4000"/>
            </a:b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У ЗАВИСНОСТИ ОД НИВОА ЛЕЗ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егментна  радикуларна л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мптоми и клинички знаци оштећења радикса израз су поремећене функције сензитивно и/или моторног корена одговарајућег спиналног нер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ериферна нервна л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оштећења сензибилитета и моторике   по периферном типу (у инервационом подручју оштећеног нерв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CF18-CD3F-489B-9A8E-338442F957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егментна - радикуларна лез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оштећење задњих коренова кичмене мождине даје поремећај сензибилитет у радикуларним зонама-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дерматомим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говарајућих корен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најчешће као последица компресије корен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бол (у види ишиалгије, брахиалги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оштећења предњих коренова кичмене мождине даје поремећај моторике у радикуларним зонама –миотомима одговарајућих корен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арезе, парали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хипотонија, атрофија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E186-DC46-4520-AF0D-85A6F1862C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ЛЕЗИЈЕ НЕРАВА ГОРЊИХ ЕКСТРЕМИТЕТ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axillar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5,C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deloideus;m.teres minor; m.subscapula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: кожа спољне стране надлакта,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рука се налази у положају адукције, благе унутрашње ро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немогућност извођења абдукције, флексије и хоризонталне абдукције надлакт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7B86-BF43-4D93-91AD-5EAD816C24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МОРФОЛОШКА ПОДЕЛА НЕРВНОГ СИСТЕМА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1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Централ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Мозак (encephalon, cerebrum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Кичмена мождина (medulla spinalis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2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Перифер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Можд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ни (кранијални) живци (12 пари) Кичмени (спинални) живци (31 пар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3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Аутоном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Симпатички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Парасимпатич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Čuvar mesta za broj slajd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85F3-B185-4D54-8E5F-FFB0E80B02B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axillar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808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 оштећења су трауматске природе, луксација или сублуксација раменога зглоба, као и у виду  компресивне лезије као последица неодговарајућег притиска због употребе подпазушних  шта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263B-7499-4D78-A678-116071AB03B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musculocutane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5,C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biceps brachii; m.brachioradials: m.coracobrachial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: антеролатерални део подлак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лакат је екстендиран и пронир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немогућност флексије подлакта са супинациј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A3A2-42B9-44C2-805E-5B2F369B1C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musculocutane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6765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оштећења самог живца флексија подлактице се изводи као лажни покрет, у средњем положај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међу супинације и пронације активношћу м. брахиорадиали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се налази слабост ових  мишића (хипотрофија), смањен обим покрета, као и угашен тетивни рефлекс м. бицепс брах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узроци лезије јесу траума и луксација раменога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1678-2075-445D-BE13-F6AD9D7703E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radi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већа грана брахијалног плексуса;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6-Th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brachioradialis; m. extensor carpi radialis longus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extensor carpi radialis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revis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supinator; m. extensor digitorum; m. extensor digiti V; m. extensor carpi ulnaris; m. anconeus; m.abductor pollicis longus; m. extensor pollicis brevis; m. extensor pollicis longus; m. extensor indic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7613-7A18-4475-88E6-E34CD5E5DD9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radi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 – дорзална страна надлактице, подлактице и ша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 : лакат је у флексији и пронацији, шака је у воларној флексији, палац у адукцији, прсти у семифлекс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немогућа је активна екстензија лакта, супинција подлакта, дорзална флекија шаке и екстензија пр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исећа шака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DAB6-0D34-4737-A390-D29F0DD062F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Нерв може бити оштећен на различитим нивоима па се разликује: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) доње оштећење се манифестује немогућношћу абдукције палца који је у висини шаке,  други прсти се не могу екстендирати у проксималним фаланг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) оштећење средњег дела (осим наведених поремећаја) узрокује слабост екстензије у ручном зглобу, ипарезу брахиорадиалног мишића због чега шака виси у ручном зглобу(тзв. висећа шака). Рефлекс брахиорадиалног мишића је угашен, а рефлекс м.трицепс брахи је одржа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) код горњег оштећења дела н. радиалиса захваћена је цела рука јер захвата и м. трицепс  брахи те је његов рефлекс ослабљен или угаш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A950-131C-4532-AE59-68801576D6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. радиалис изложен је честим оштећењима, приликом повреда надлактице, при ходу са штакама, као и због тровање олов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е јавља код алкохоличара. Особа се ујутро пробуди с немогућношћу екстензије шаке. Компресија настаје на месту где живац заобилази хумерус, због притиска надлакатне кости на сам нерв (код алкохоличара који заспу с главом подупртом руком па настаје исхемиј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оравак је у правилу релативно добар. Треба што пре почети с физикалном терапиј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2C6C-E4C8-4E17-8BC8-4A628428E9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n.medianu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6-Th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 :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pronator ter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flexor carpi radial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palmaris longu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flexor digitorum superficial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flexor pollicis longu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flexor digitorum profundu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pronator quadratu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m. flexor pollicis brevis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abductor pollicis brev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opponens pollic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ензибилитет: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латерална површина длан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ларна страна 1,2,3 прст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радијална страна 4 прс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4EF0-102B-4050-8E5E-AF189BC7ED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median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палац стоји у равни длана, , ручни зглоб у ул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ној девијацији, подлакат у супинац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немогућност пронације подлакта, воларне флексије шаке, опозиције и флексије пал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ака проповедника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0B41-3516-47FB-A9A7-28C3B5903A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median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77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бити оштећен због супракондиларног прелома хумеруса, повредом лакатног зглоба, подлактице, ручног зглоба, паравенским уносом лека у лакатној јами, а један од најчешћих узрока је синдром карпалног кан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1876-EFC3-4C5C-8B1F-EB2F99EE196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ПЕРИФЕРНИ НЕРВНИ СИСТЕМ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ранијални нерви 12 па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пинални нерви 31 па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ичмени нерви настају спајањем вентралних (предњих) и дорзалних (задњих) коренова кичмене мождине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редњи корен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(radix anterior s.motori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 еферетна нерв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Задњи корен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(radix posterior s.sensoria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 аферетна нерв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ganlion spina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8475-259C-4872-BFA5-8AF0B9D9A3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ulnar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8-Th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: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fle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x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carpi ulnaris;m. fle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x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digitorum profundus III et IV; m. fle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x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dig. V;m. oppones dig. V; m. palmaris brevis; m. adductor pollicis; m. fle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x.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ollicis brevis, mm. 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terossei; mm. lumbricales III i IV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ензибилитет: унутрашња страна длан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надлактице, мали прст, и медијал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трана 4 прс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540C-4369-4444-9D58-5F75A90356E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ulnar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“канџаста шака”, атрофија хипотенара, атрофија интеросалне мускула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немогућност аддукције и абдукције прстију, као и воларне флексије са улнарном девијацијом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05CC-2F1F-4AF0-9908-180E040580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ulnar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у лакту најчешће узрокују компресију живца. Настаје губитак осећаја у 4 и 5 прсту, ако и атрофија малих мишића шаке. Немогућност извођења флексије ша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м у  дисталном  делу (испод лакатног зглоба, тзв. Фроментов знак) настаје атрофија малих мишића шаке што доводи до типичног изгледа шаке (тзв. канџаста шак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рв може бити оштећен и притиском на лакат због дуготрајног лежања, или може бити механички оштећен при артрози лакатног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B91B-BF7C-46EE-A2E5-15F65BDC2D6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СИНДРОМ КАРПАЛНОГ ТУНЕЛ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мптоми се развијају постепено, почињу са пролазним трњењем у прс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им утрнутости прстију и целе ша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сније, развија се и мишићна слабост, па се рргиструје ослабљен стисак шаке, који особе често примете тек када им почну испадати предмети из рук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узнапредовалој фази може доћи до немогућности стиска шаке, као и немогућности хватања малих предм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161A-E7AD-41A5-8DD2-D0A0CCCB89E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узрок је свакако преоптерећење тетива у карпалном каналу специфичним пословима и спортовима који узрокују њихово скраћивање, попут чишћења, рада на тастатури, зидара, дизања утега, бацачких дисциплина у атлетици, те код неких других профес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 ЕМН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ично погађа обе шаке, ал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у симптоми јачи у доминантној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уц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0C65-853D-4A39-8319-F14ACB0C108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оје два основна циљ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Смирити симптом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обољшати флексибилност шаке и ист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љивост скраћених тети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ту сврху примењуј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терапиј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ЕС), УЗ, ИМП, ласеротерапија, КТХ под контролом терапеу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3EDE-30EE-4B81-A7E2-90985F40349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остоператив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- 7 дана након операциј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учни зглоб је имобилисан ортозом, особу едуковати вежбама прстију (ширење и скупљање, стискање и испружање, пинцетни хват), вежбе циркулације, руку подићи изнад висине срца и ослонити на подлогу, у трајању од 20 минута мењати положај руке од маx повишеног (3мин) до маx спуштеног (1мин). Направити до пет промена , поновити три пута днев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ком дана руку држати у повишеном полож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0A31-D37E-4A8E-9DF1-AB4A11A927D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остоператив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8- 14 дана након операциј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клонити ортозу, започети са мобилизацијом ручног зглоба, вежбе у циљу јачања мишића шаке и прстију те финих покрета прстију, вежбе мускулатуре целе руке и раменог појасаа, вежбе  постур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487A-1073-410D-A763-D68003BEF8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остоператив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4- 30 дана након операциј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ахтевније вежбе јачања мускулатуре подлактице, шаке и прст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договору с оператором повратак особе на поса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177E-0796-476D-BB70-278D96A3044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РАНИЈАЛНИ НЕРВ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можданог стабла полазе 12 пари нерава који се дел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е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II, IV, VI, X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XI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о-сензитивне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V, VII, IX,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тив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,II,VII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70C7-A2A6-4E69-9C5A-8502795AEC0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ЛЕЗИЈА ПЛЕКСУСА БРАХИЈАЛИС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Узроци повре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бодне или опекотинске повреде и најчешће као спортске повреде (фудбал,рвање, кошарк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е брахијалног плексуса код новорођенчади: ове врсте повреда најчешће се јављају приликом порођајног ак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а настају приликом саобраћајних несрећа у које су укључена моторна возила (кола и моторцикли), ране од ватреног оруж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умори, радијацио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2E56-571A-4589-8BD5-E3B4278BD8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ПОРОЂАЈНА ПАРАЛИЗА БРАХИЈАЛНОГ ПЛЕКСУС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40458c"/>
                </a:solidFill>
                <a:latin typeface="Tahoma"/>
              </a:rPr>
              <a:t>Paralysis plexus brachialis obstretrical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ОРОЂАЈНА ПАРАЛИЗА БРАХИЈАЛНОГ ПЛЕКСУС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неуролошки синдром периферног типа настао на рођењ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узрокује га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истезање, кидањ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омпрес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коренов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5,6,7,8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Th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што има за последицу одузетост мишића, сензитивне и трофичке сметње раменог појаса и ру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циденца се креће од 0,2 до 4 на 1000 живорођене де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FB67-C6B9-49FF-BB41-5555994B85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Етиологија и фактори риз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штећења ПБ могу наста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ренаталн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због положаја фетуса, посебно врата и руке, пупковина омотана око руке)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еринаталн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многи аутори сматрају да је ток порођаја главни узрок оштећења ПБ, а то поткрепљује повећана учесталост придружених повреда)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остнаталн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FB10-8C62-4673-B74F-F1930EFAC2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Етиологија и фактори риз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Фактори ризика за ОБП су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Фактори ризика од стране дете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кросомиј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ервикално ребро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уготрајан попречни положај плод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ски тонус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ар након 5 минута испод 5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ца са тежином већом од 4500 г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533C-D27A-47F8-BB4A-53499DDEE09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Етиологија и фактори риз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актори ризика од стране мај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бнормалности утерус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јабетес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јчине телесне пропорције (БМИ, ниска грађа) и годин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ца мајки дијабетичарки имају већи ризик не само због веће тежине него и због неких специфичних телесних карактеристика (шира рамена, већи дијаметар груднох коша и већи тотални БМИ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28CD-6E6E-4451-B6AD-A211AA7440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актори ризика током порођај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ханизам трудова самог порођаја, пролонгирани порођај, дисторзија рамена и фрактура клавикуле, преципитирани порођај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актори ризика након порођај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оплазме, инфекције, компресија споља или еде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CEFE-ACF4-450B-8CDF-E609142DB1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вија се одмах по рођењ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е се развити разнолику клиничку слику: од благих, привремених испада моторике до потпуне млитаве одузетости захваћене руке уз потпуним губитак осећа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обичајена је класификација према оштећеним кореновима плексуса брахијалиса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B8DB-7B4B-45E8-A80C-2EADE8593B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Класификација је према оштећеним кореновима плексуса брахијалиса на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380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Горњи тип лезије или ЕРБ-Душенова (Erb – Duchenova) парализ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овреда C5, C6 корена. Захваћени су мишићи рам.појаса и флексори и супинатори подлакта. Може захватити и корен C7 – проширени тип I. Захваћени су и m triceps и екстензори ручног зглоба и прст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оњи тип лезије; Klumpke - Dejerine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повреда коренова C8, Th1. захваћени су мали мишићи шаке и флексори ручног зглоб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омплетна лез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повреда свих коренова C5-Th1. Захваћени су сви мишићи инервисани нервима плексус брахијали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958B-9830-4C40-9ACF-C553FBF359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ПИНАЛНИ НЕРВ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кичмене мождине полази 31 пар нерав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врат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2 груд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 слабинских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 крс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 тртич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инални нерв пролази кроз међупршљенски отвор и дели се у две гране: предњу и задњ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CAA9-476A-44E7-BA75-EC322BEDF67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Горњи тип лезије или ЕРБ-Душенова (Erb – Duchenova) парализ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је због анатомских позиција. Јавља се у 60% случаје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ука је адуцирана уз тело, испружена у лакту, ротирана унутра с пронираном подлактицом. Није могућа абдукција надлактице, ротација према споља у целини, као и флексија лак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ни тонус је снижен. Повређена рука не учествује у Моро рефлексу и другим положајним тестов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флекс хватања шаке је присут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флекс бицепса и брахиорадијалиса су угашен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C58E-F6CF-4482-B083-E8CD07EF839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Горњи тип лезије или ЕРБ-Душенова (Erb – Duchenova) парализ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зија корен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 ретко се дешава изолова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 претходне симптоме лака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 у умереној флексиј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флекс трицепс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 угаше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52A0-7494-47DA-967B-9938264898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Доњи тип лезије;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Klumpke - Dejer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реће се ретко јер је тај дио плексуса смештен дубље. Јавља се у 2-10% случаје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ака је у положају палмарне флексије са хиперекстензијом првих фаланги прстију, палац је аддуциран и опонир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ака изгледа попут канџ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стаје рефлекс хватања, а у положајним тестовима одговор шаке је патолошк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C443-7F90-46BE-A5EB-598BFBFFF6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мплетна лезија плекуса брахијали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380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руга по учесталости. Јавља се у 30% случаје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ука је непокретна, хипотрофична, млитаво лежи уз тело у положају унутрашње ротације, адукције надлактице, с пронираном подлактицом, воларно флектираном шаком и прстима, уз адукцију и опозицију палц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 је оштећен у различитом степен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ро се не изазива, рефлекс хватања шаке изоста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и тетивни рефлекси су одсут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C0F1-07D7-47C1-B6AB-0434534DA8F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ДИЈАГНОЗ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НАТНО ПОНАШАЊЕ ДЕТЕ, спонтана моторика, симетриј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пасивне покретљивости, снага активних покре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неонаталних рефлекс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 (додир, бол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МН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, МР, Ц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CF41-251F-4C74-A783-C97B64E77C1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Хабилитација деце с оштећењем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плексуса брахијалис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380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ложен и специфичан проблем и проводи се тимск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ахтева мултидисциплинарни и интердисциплинарни приступ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Циљеви хабилитације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плетно вратити сензорну и моторну контрол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држати и повећати обим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ећати мишићну снаг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стицати билатералну функционалну актив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речити секундарне компли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F691-2629-4883-93BC-2CC9D67C08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Резултати хабилитације  зависе од следећих фактора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апију треба започети ра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апија мора бити квалитет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требна је добра сарадња с родитељим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требно је поставити реалне циље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тивација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зирање терап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0B07-6C8E-4350-BC70-FCE2E24B3B9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Лечење порођајне парализе плексуса брахијалис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09120" y="16765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тско леч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урохируршко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педско хируршко леч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B8AF-3F06-4025-97D8-F2FBECAE87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Задаци физикалног лече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чување физиолошког обима покрета у зглобовима афициране ру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речавање појаве остео-арикуларних деформ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чување конрактилности мишића  до реинервације и спречавање атроф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циркулације крви и лимф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езбеђивање прилива аферентних импулса из пареичне руке у одговарајуће центре у ЦНС-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нова пуног обима покрета ако је до контрактуре дошл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F61B-2483-40BC-B0D1-7CA3D8D0DA5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ИД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РАД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184-C2D7-47D1-AAF4-8ECE9DF33EA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редње гране кичмених нерава граде нервне сплетове (изузев грудних нерава)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lexus cervical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lexus brachial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n intercosta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lexus lumbal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lexus sacral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lexus coccige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C9A9-0E63-4BA4-ACAE-5DE558E1589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Физиотерапеутска функционална процен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1. Анализа држања и спонтане покрет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ете треба да је без горњег дела одеће, на терапеутском столу.  Посматрањем се анализира држање које је одређено типом одузетости и спонтана покретљивост ру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2. Испитивање обима покрета у зглобовима раменог појаса и ру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спитују се пасивни покрети и упоређују за физиолошким покретима здраве руке. Изводии опрезнои споро да мишићи не би реаговали заштитном контрактуром и скраћење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C5F6-AF70-4C6B-BA03-FBF4E67654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Физиотерапеутска функционална процен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617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3. Мерење обима и дужине афициране руке и упоређивање са здрав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4. Тестирање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стоје потешкоће у класичном тестирању мишића путем ММТ-а код де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јчешће се користи модификација где је оцена  0-нема покрета; 1-покрет у зачетку; 2- покрет кроз корисну амплитуд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5. Испитивање сензибилитета –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одир или коцкица ле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6. Испитивање употребе руке и анализа координациј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15D5-E2D3-40F0-AE7D-400D806C284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Tahoma"/>
              </a:rPr>
              <a:t>ПОЗИЦИОНИРАЊ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09120" y="15235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ком прве 2 недеље након рођења дете се оставља мирно, да се повуку последице трауме, ресорбује оток и крваре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ука се поставља у положај који спречава тракцију повређених коренова ПБ. Код изражене млитаве парализе рука може да се постави преко груди де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израженог горњег типа одузетости позиционирање може да се изведе помоћу Крамерове шине која прати спољну ивицу грудног коша, ндлакат, подлакат и шака. Крамерова шина се поставља у положај абдукције 90⁰ спољашње ротације од 90⁰ у рамену, лакат у флексији 90⁰, подлакат супиниран, шака у благу дорзифлексију, палац у опозицију, а прсти у семифлекс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2483-FC62-4B01-A4D0-0D72EE991C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Tahoma"/>
              </a:rPr>
              <a:t>ТЕРМО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АРАФИНСКО ПАКОВАЊ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користи се као увод у КТХ, јер побољшава циркулацију крви и лимфе, убрзава метаболизам и трофику, има аналгетски ефека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ишеслојна газа се натопљена парафином се наноси на лопатицу, раме и руку у целини, 30 минута 1х дневно, од 2 недељ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5654-0118-4D98-A203-261425579C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ЕЛЕКТРО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Електростимулација експоненцијалним импулс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3 недеље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лективним дражењем паретичних и паралитичних мишића спроводи се једном дне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08EF-17AD-44D7-A805-8B8082D7455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КИНЕЗИ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d44a4"/>
                </a:solidFill>
                <a:latin typeface="Tahoma"/>
              </a:rPr>
              <a:t>1. ПАСИВНЕ ВЕЖБЕ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а очување обима покрета у зглобовима делује се на очување дужине меких ткива и физиолошких својстава зглоб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дстављају извор аферентних имулса из инактивних зглобовс ка одговарајућим центрима у ЦНС-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зводе се у физиолошкој амплитуди 1-2 х дневно, по 10-15 пок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570D-FDD2-45A3-AE18-450CFDE095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КИНЕЗИ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КТИВНЕ ВЕЖБЕ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 стимулацију мишићне активности у периоду новорођенчета и периоду одојчета користе се рефлексни одговори добијени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ероцептивном стимулацијом (додир, притисак, коцкица леда)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приоцептивном стимулацијом (рефлекс на истезање, апроксимација или дистракција зглобних површина)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имулацијом постуралних рефлекса (управљање, одбране, равнотеже)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ијентационим одговорима (тактилна, мануелна, визуелна, звучна оријентациј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3839-B717-4188-98A1-11FBC67174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ХИДРО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друге године живота се спроводи у кадицама за хигијенско купање, касније Хабард кади или терапијском базен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исти се топлотни ефекат воде за савлађивање контрактура, спровођење ктх програма у растереним условима и условима повећаног отпо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C7A1-FC98-43D1-916C-398071E891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РАДНА 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исте се одабране играчке : за хватање (звечке, колутови, куглице, коцке), звучне играчке, играчке чији се тастер притиска једним прстом, телефон, сат, играчке које се крећу на навијање, музички инструменти (клавир, бубњеви), маказе, олов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CA95-946B-4D44-A688-0FFB165A98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тепени оштећења ПМН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6C16-D2FD-4F8A-BDBB-865B75F815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Неурапраксиј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контуз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ерв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време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ремећај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функ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живц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ста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ејств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раум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Аксонотмези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ки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со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тоанатомск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вред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со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њихових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ијелинских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кошуљиц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чем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Шванов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војниц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убулус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углавн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еоштеће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сонотмез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матр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лезиј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живц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"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континуитет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"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Неуротмезис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дстављ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тпу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ки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ерв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јтеж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вред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чем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истал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егмен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длеж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Валеровој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егенерациј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ВРАТНИ ПЛЕКСУС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plexus cervicalis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могућава нервну повезност са главом вратом и рамен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раде га коренови спиналних нерава 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</a:rPr>
              <a:t>C1-C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а изазивају : трауме, операције, прострелне ра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мптоми су: главобоља, слабост, атрофија и спазам мишића вра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40C4-C7D7-4B93-B5BD-62337597B0B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Неурапраксиј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контузиј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нер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верзибилни поремећај провод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оравак унутар 6 недељ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биохемијских промена у мијелинском омотачу (нерв је интактан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ма Валерове дегене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је оштећена моторна функција, ретко сензибилит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8CBB-4F9A-4C46-B14C-A56A938CD8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ahoma"/>
              </a:rPr>
              <a:t>Аксонотмезис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sr-CS" sz="4000" spc="-1" strike="noStrike">
                <a:solidFill>
                  <a:srgbClr val="660066"/>
                </a:solidFill>
                <a:latin typeface="Tahoma"/>
              </a:rPr>
              <a:t>прекид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CS" sz="4000" spc="-1" strike="noStrike">
                <a:solidFill>
                  <a:srgbClr val="660066"/>
                </a:solidFill>
                <a:latin typeface="Tahoma"/>
              </a:rPr>
              <a:t>аксо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кид континуетета аксона и мијелинског омотача, сачувани су везивни омотач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ално од повреде аксон дегенериш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ксимално од лезије долази до смањења дијаметра аксона и мијел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 тотална моторна и сензитивна одузет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генерација аксона се одвија неометан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mm/д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поравак понекад изискује третман и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до 18 месец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A2AF-B661-4FAE-90C7-7FEF132454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ahoma"/>
              </a:rPr>
              <a:t>Неуротмезис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кид континуитета аксона, мијелинског омотача и везивних омотач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Кл. слика: парализа флакцидног типа, брзо напредовање атроф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ЕМГ показује денервационе потенцијале, полифазију, редукцију трасе до потпуног губитка моторних једини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 постоји могућност регенерације нер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еративно леч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DE1C-A79B-4578-ADBF-A7B66C0E5E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линичке сл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уролош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инелов зн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опунске дијагност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МИОНЕУРОГРАФИЈА (ЕМНГ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мпјутеризована томографија (Ц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уклеарна магнетна резонанца (НМР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иографија (РТГ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6B4C-5A0A-4025-AE8E-C6315ED3305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ФИЗИОТЕРАПЕУТСКА ФУНКЦИОНАЛНА ПРОЦЕНА ЛЕЗИЈЕ ПМ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83772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гистровање трофичких и циркулаторних сметњ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 (држ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мишићне снаге (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обима покрета у зглобовима (МОП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обима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дужине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 (функционална анализ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8D56-653F-4760-A17D-A4148E6A58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О (кортикостероиди, вит Б.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РШКО (унутар 3 месеца од повреде, може и након годину да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F2E6-5C30-4EED-87C6-7ED22A92A45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Медицинска рехабилитац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иљ према стадијуму обољења и функционалном налазу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дијум одузет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јум опор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дијум трајних последи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BFE0-2F50-4A8F-8897-54DA9EC0B4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380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 неге: позиционирање, елевација и заштита екстремитет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7C62-BF03-4072-807A-1D1749E138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44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ЛТРАЗВУЧ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УЕЛНА 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2B3F-68E1-4BF2-8982-4C7E65FF1B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и до хиперемије, боље оксигенације ткива, ресорпције патолошких продуката → повољни услови за регенерацију периферних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гетски и спазмолитичк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мекашава везивно тки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е примењу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лажна топлота (топла вода, компресе), пелоид, парафин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фрацрвени зраци и краткоталасна дијатерм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86ED-7D46-469F-AB68-B811390220B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ВРАТНИ ПЛЕКСУС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plexus cervicalis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раде га предње гране прва 4 кичмена нер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 њега полазе 2 врсте гра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тивне за кожу в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, уха, рамена и горњег дела грудног кош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е које инервишу мишиће врата и дијафрагм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415B-579B-46D7-9013-695F3662C13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лектротерап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билна галванизација- доводи до вазодилатације, аналгетски ефекат, позитиван трофички ефекат и на процес регенерације нер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галванске купке- позитиван ефекат галванске струје и хидротерап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фореза лекова- вазодилататори, аналгетици, кортикостероиди, Б витами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ДС-аналгетски, вазодилататорн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6F5A-37B7-4ED7-85FF-0C512A3ABA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физикална терапија 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- e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кспоненцијалне струје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е до селективног дражења одузетих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јање импулса се подешава у зависности од степена периферне одузет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хника- монополарна и биполар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-5 серија по 10 контра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постизања оцене 3 према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640D-9969-423F-9E84-4DFFDBE348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физикална терапија 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-e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кспоненцијалне струје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раметр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лектростимулаци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дређу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м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цен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ануел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ишић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ест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рјентацион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ужин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рајањ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мпулс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уз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зависности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тепен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ериферн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дузет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Најтежа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---------( 500-100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/ 200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Нешто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лакша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----( 250-50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/ 100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Лака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------------( 50-125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/ 250-50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Нормалан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мишић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---------------( 0,1- 3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/ 2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769040" indent="-19656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Е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2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 500/2000,  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цена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 0-2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4" marL="1769040" indent="-19656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Е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1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 250/500,   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цена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 2+ -4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550"/>
              </a:spcBef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3F98-03F4-4982-B871-2EB55A2910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лектротерап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- аналгетск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нибиторно на симпатикус, доводе до активне хиперемије, има аналгетско и трофичко дејство, тиме доводи до стимулције регенерације перифених нерава и побољшања функционалног стат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DD4C-5AE0-4913-8C8D-420094F8ADB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- КТХ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с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0,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тпомогну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: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тпор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A587-E7B9-4EEC-A08D-C09F68E62E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- дејство се заснива на темичком, мехничком и хемијском дејству, као и позитивном психолошком ефект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- код лезије периферних нерава користи се биостимулативни ласер: биостимулација ћелија, аналгезија и антинфаламаторно деј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кође убрзава и регенерацију нара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3CB4-AACB-415D-98A4-F075883AB4F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sr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Аналгетски ефекат путем хиперполаризације ћелијске мембране, повећаном продукцијом ендорфина и нормализацијом циркулације крви и лимфе и пх крви, поспешује регенерацију периферних нерава и спречава развој трофичких улкус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ЛТРАЗВУЧНА 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циљу смањења количине ожиљног ткива у оперативном подручју након оп лечења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УЕЛНА МАСАЖА – аналгетско и седативно дејство , доводи до побољшања локалног метаболиз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DBA3-ABBD-4A40-BBE3-D323DE91CC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ТАДИЈУМ ОПОРАВ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Х У ЦИЉ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моторне рееду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сензорне рееду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А РЕЕДУКАЦ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е вежбе са отпором по принципу прогресивног оптерећења по  Де Лорм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репетитивних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максимум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ређује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једном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едељн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затим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ри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рије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о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10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нтракциј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5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ут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едељн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нтракциј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½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x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нтракциј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2/3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x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нтракциј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x.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оптерећењем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6FED-56E1-48DD-920F-5F55034FAF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ПОРАВКА</a:t>
            </a:r>
            <a:br>
              <a:rPr sz="40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СЕНЗОРНА РЕЕДУК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д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узетост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ериферних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ерав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ј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мај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богат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нзорн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нервациј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а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шт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пр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лезиј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медианус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услед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огрешног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урастањ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аксон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г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кор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еизбежн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олаз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д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медианус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ип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еуротмез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олаз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огрешн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реинерваци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рецептор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шт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аћен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sr-CS" sz="2000" spc="-1" strike="noStrike">
                <a:solidFill>
                  <a:srgbClr val="40458c"/>
                </a:solidFill>
                <a:latin typeface="Tahoma"/>
              </a:rPr>
              <a:t>астереогнозијом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т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тежан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епозна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величин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ежин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врст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материјал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јег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астављен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едмет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ј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тављ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шак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т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затвореним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чим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ак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б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скључил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чул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вид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Увежбавање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стереогнози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звод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ак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шт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т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завезаних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чиј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в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р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ст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говарајућ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рук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ж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сталих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стиј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заштићен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рукавицом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окушав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пипавањем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епозн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величин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ежин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врст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материјал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едмет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5BA8-B044-4910-A335-7EB4473E2E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СТАДИЈУМ ТРАЈНИХ ПОСЛЕДИЦ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рши се замена и компензација функције оштећеног нерв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рименом ортотских помаг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бука пацијента једноруким активностим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C3E9-4721-4ADA-939A-39806F82EC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РАМЕНИ СПЛЕТ</a:t>
            </a:r>
            <a:r>
              <a:rPr b="1" lang="vi-VN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1" lang="vi-VN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1" i="1" lang="vi-VN" sz="4400" spc="-1" strike="noStrike">
                <a:solidFill>
                  <a:srgbClr val="660066"/>
                </a:solidFill>
                <a:latin typeface="Tahoma"/>
              </a:rPr>
              <a:t>plexus brachialis</a:t>
            </a:r>
            <a:r>
              <a:rPr b="1" lang="vi-VN" sz="4400" spc="-1" strike="noStrike">
                <a:solidFill>
                  <a:srgbClr val="660066"/>
                </a:solidFill>
                <a:latin typeface="Tahoma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раде га предње гране од 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 5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8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рва и први грудни нерв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њега полазе 3 примарна нерва снопа од којих  полазе нерви за кожу и мишиће рамена и ру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21AF-A0E6-4478-9FA6-406FA46DA1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5:59:55Z</dcterms:modified>
  <cp:revision>1024</cp:revision>
  <dc:subject/>
  <dc:title>Rehabilitacija traumatoloških bolesnika</dc:title>
</cp:coreProperties>
</file>